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C7D44-231F-4ECF-A985-D90596EBA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E16F2-2BF1-4F8A-8713-8E1A75A25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8386EF96-47F1-4846-AF2B-FBD961FBD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A845D-8BC7-4EF3-BB89-438F42EC9F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5907D-055C-4EB9-B925-42A03EC62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142DF76A-77D6-42D2-A0E8-E73650DD1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Поље индукције 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1-100 м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Највећи број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СТАЦИОНАРНИ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и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ОМЕНЉИВИ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МП који се користи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у терапијске сврхе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ди у овом опсегу индукција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Поље индукције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˃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 100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m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Ф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ункционишу као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улсни магнетни стимулатор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с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високим нивоом магнетне индукциј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; због изузетно високе густине ЕМ поља, може у току стимулације да изазове и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мишићну контракциј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себна погодност примене ових апарата је код: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успореног стварања калуса; остеопорозе; свих болних синдрома; пострауматских стања и спортских повреда; реуматских болесник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(и запаљенски, и дегенер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57E3C-9317-45D7-BA16-0F0131EBC2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81C35-81C1-440B-A3EE-841ED0B9F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F4668C36-66CD-4912-80D3-4A353C029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7ECF4-F7A2-4BCC-B751-C4CD09749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FE6F1DD7-4998-43B4-8CB9-B589F0804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0BD29-71D4-4AEA-83A0-B70950377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1B94B18A-61A8-4843-914A-E0965E2D8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911DD-C269-4D1D-B608-01B1CF015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1DCDEA01-E585-4CBD-AA0E-A6DB6DC66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F1129-534A-41AA-9169-FF2E8480F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66E981AC-E365-460E-9FD3-9BF5EEED9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93598-515B-48D5-B75D-D6305FB1D0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28E96-772C-40FE-A4D3-13B5E1FA5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C927B612-D918-44DC-B85D-D8722C75D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8A733-8895-4CC2-8035-C67B775BE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E395E3D8-D6BB-4A08-889C-DEA381210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2D79B-523A-4E09-AF7E-7AA811DC6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CB4C22F1-BDC0-4EE7-8493-FAE610BA6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35F97-4A9B-4ACB-B7FE-3475D6EEC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512681C6-596F-4A60-B4E0-9DFC9A93D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23DE5-ED15-49BE-846F-3BD62012A1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2F1DF-BEE3-4070-9957-0E99F932D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D548943E-78DD-4F9C-8494-9D9B48D98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E2F3A-B0CA-48F9-8BC4-5DDD964295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4F8F6-26BA-4A0A-8F0B-A99ADF122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608BEFEB-6FB6-4BE1-B5D0-314BFEBBE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2F4ED-FD38-4BD3-AF9D-CE99B23E0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9F420F00-3E40-42BF-946D-AE7396EBA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1B5F2-CFA5-4B95-AA5B-75D438D0B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EBD0D374-6177-4481-B2AA-C08461AE4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5C6E4-4CB8-4932-AF73-234C09E7FC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FD4D5-AC55-4E6E-B657-0F3E37FB9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051EAC47-8955-4733-BD93-78DBB6603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E06B8-F550-4B9C-88ED-C9005748B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DAD06AEC-1D67-4551-854B-7AFFDD213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B2268-51D3-4FAC-8946-A3EF51EFB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F2306844-E7A7-4FBA-9B55-C5DDC8279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A5CC5-DE19-4E78-8AB7-A2FF64BFC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DE494716-F849-454E-940D-317EA1ABE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30CB7-DC94-43C8-A7CA-22F8504553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7CA8D-B88B-4961-9419-A44C70AE5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B915F2BA-F55F-43E0-88ED-66DCDCDA3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E7D15-01EE-4AB7-B231-4EA2C2C10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042317BD-0A60-46A0-BAD4-35FE66520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BD221-EFD0-4EE6-BB04-F7EC5EBA0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F5552FDA-E46E-4C7B-9F3A-FB36ED053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99AAD-80D0-493F-B618-249CA331CC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0D19D-2818-49A0-BB6A-C86AAC5B5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CD864B1F-CB1C-4998-B363-0822547FF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62D26-C29D-481E-8CE8-51C38562FC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F3174-E259-40FB-92A4-FA55C2A9C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B4EE660A-143E-4FCC-B02B-85226706B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021F1-C05B-4990-916D-C4BF5D11C1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BB259-77BE-4BF7-ACA7-FC6A63802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DD686DC1-24DD-4F12-BA0B-FC1954900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B6C56-3A0F-460A-AEF8-FD0F3FB506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5E713-C1BD-4B12-8E06-F510192FA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7CBEE4B6-D85E-4279-899E-0B3A0531D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0FE1A-BCC6-40B6-96AF-4BEA641ED0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E5461-98E3-4837-ADF5-7AC9E6F1B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4CD3ED7D-281E-453D-A2FE-7F8B699AF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0F3FD-3A58-45CD-ACCF-23BEBFEE10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A266B-295A-49D2-AC59-50CB72C04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B3187203-1397-4429-9EFC-6C7FDA9D3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84737-CB88-4DDF-B0DF-48C130F129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CB826-8A8A-4F53-B69D-A4C23433D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6515ABC4-24FE-47B3-A45A-386DE7ECB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C1B2A-624C-44D6-B4E2-43055BE530A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E83EA-AA9E-4298-9C1A-1B6039E64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2CD955B6-7A9A-4638-9C70-590DE84F9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F830C-A425-4B04-BB89-F3053E0D6C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6A072-3A17-40DB-A5BC-690E04B4B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C6E183B4-96EB-4831-BE4B-1541BABCF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5CE88-D7F5-406B-82FB-0066439609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AF293-FF7C-4623-95CA-4D4082C60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EE5C8DF2-C65E-4F58-A9BB-D4CB0D029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9B27E-2036-4E57-8601-FBCA417055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AE18B-994B-468D-BFFF-1EAB3022D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03C3DD1B-7E17-4B89-BE02-26A4D539C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6D76D-D798-4A8B-BAF8-0E21978974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2952B-D03A-429F-B97E-9CBC9A163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267016B0-0D6B-4369-8108-BF371DA76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6F4C2-5591-4FFE-8F60-13CBFB02F3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1E1A5-73EE-4145-A84A-7D7FF494A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82B11018-A8B9-420E-89FC-D658FA844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FD5F1-FAFA-418A-8CE8-B9CF3005B2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63E37-E60F-4456-884D-B37E6662E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29EC7420-3674-4251-8B31-505A99013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4E268-6A2B-46A6-8A80-92DF4255D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CB5E6376-584F-418A-9FAF-7D6BD95E0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5625A-0752-46EB-8051-90FE01BDB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02632960-BDC5-410C-B589-F781E72A6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518CC-C471-4F28-B6B1-E9F7350AF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9B78BD4A-13E7-46FF-857D-603D28B20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B4D34-6F1F-4132-8BB3-ACBD24558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166BA505-D01E-445E-940E-3CAD645FD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F09AE-2A31-45E0-8305-DC6BF3974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E15BD7DB-3DF9-421F-903C-3397678E4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5EB7D-8776-4438-BB47-62CDE570A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A2799FED-D316-47DA-A01D-7CD37294C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00C37-5A9F-44AE-BF2B-3DE350BE1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6FE51061-68A2-42ED-854C-0450F7BF9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5277B-7F84-42AD-A587-E1C9CAC24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0BBFD99D-47A6-432C-80FE-B6412E33A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8C351-EEB2-4A82-9D55-329A82568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352A4F40-6074-47D7-BF4A-EF236F16E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BBDC5-696C-41F8-91C0-1ACE2FE087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52B74-9901-41E6-BE4E-1108D0762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5CE722A8-077D-4348-BECD-CDCED05A8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C339C-2898-4A89-BAA4-ED2171B1F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8592C80F-EE25-44BF-8D86-3107AE26E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F7D13-DFCB-405A-BF27-58D0961DC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AA8463B6-F570-457B-9CB9-149EFEB5C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BB644-A36A-4C7D-BBA5-5B427C2E0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FFDE8C5B-E702-4AF8-80BD-97A950DB8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EEBAC-C113-430F-8D2E-A17ED0E863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0480"/>
                <a:tab algn="r" pos="869004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812CE4E4-6030-440C-9423-02D73AA792A7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0480"/>
                <a:tab algn="r" pos="869004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2CE1FD9C-D2D4-4B8C-B118-41B212DD0743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Line 2"/>
          <p:cNvSpPr/>
          <p:nvPr/>
        </p:nvSpPr>
        <p:spPr>
          <a:xfrm>
            <a:off x="457200" y="1341360"/>
            <a:ext cx="8143920" cy="180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" name="Picture 3" descr=""/>
          <p:cNvPicPr/>
          <p:nvPr/>
        </p:nvPicPr>
        <p:blipFill>
          <a:blip r:embed="rId2"/>
          <a:stretch/>
        </p:blipFill>
        <p:spPr>
          <a:xfrm>
            <a:off x="7704000" y="1206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9360" y="4662360"/>
            <a:ext cx="9134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3760" y="2611440"/>
            <a:ext cx="913464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1"/>
          <a:stretch/>
        </p:blipFill>
        <p:spPr>
          <a:xfrm>
            <a:off x="3635280" y="333360"/>
            <a:ext cx="1584360" cy="205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escription of magnetotherapy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457200" y="1484280"/>
            <a:ext cx="84358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agnetic induction 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sr-Latn-CS" sz="2200" spc="-1" strike="noStrike">
                <a:solidFill>
                  <a:srgbClr val="ff0000"/>
                </a:solidFill>
                <a:latin typeface="Verdana"/>
              </a:rPr>
              <a:t>mT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according to international norms: for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ow-frequenc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=10-30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m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for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igh-frequenc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=0,5-1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Frequency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 (</a:t>
            </a:r>
            <a:r>
              <a:rPr b="1" lang="sr-Latn-CS" sz="2200" spc="-1" strike="noStrike">
                <a:solidFill>
                  <a:srgbClr val="ff0000"/>
                </a:solidFill>
                <a:latin typeface="Verdana"/>
              </a:rPr>
              <a:t>Hz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the choice depends on indication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Length of procedu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1 Тh unit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</a:rPr>
              <a:t>30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Number of procedure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a series: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unlimi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cute condition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er induction, lower ⱱ, shorter duration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hronic condition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igger induction, higher ⱱ, longer duratio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0000c"/>
                </a:solidFill>
                <a:latin typeface="Verdana"/>
              </a:rPr>
              <a:t>Indication area depending on the frequenc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8" name="Group 2"/>
          <p:cNvGrpSpPr/>
          <p:nvPr/>
        </p:nvGrpSpPr>
        <p:grpSpPr>
          <a:xfrm>
            <a:off x="457200" y="1484280"/>
            <a:ext cx="8140680" cy="5113080"/>
            <a:chOff x="457200" y="1484280"/>
            <a:chExt cx="8140680" cy="5113080"/>
          </a:xfrm>
        </p:grpSpPr>
        <p:sp>
          <p:nvSpPr>
            <p:cNvPr id="119" name="Rectangle 3"/>
            <p:cNvSpPr/>
            <p:nvPr/>
          </p:nvSpPr>
          <p:spPr>
            <a:xfrm>
              <a:off x="457200" y="1484280"/>
              <a:ext cx="2158920" cy="35712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Verdana"/>
                </a:rPr>
                <a:t>FREQUENCY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" name="Rectangle 4"/>
            <p:cNvSpPr/>
            <p:nvPr/>
          </p:nvSpPr>
          <p:spPr>
            <a:xfrm>
              <a:off x="2627280" y="1484280"/>
              <a:ext cx="5961240" cy="35712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Verdana"/>
                </a:rPr>
                <a:t>INDICATION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457200" y="185040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2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2627280" y="185040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All types of inflammation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457200" y="2215080"/>
              <a:ext cx="215892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4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2627280" y="2215080"/>
              <a:ext cx="596124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Bronchitis; Sleep disorder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457200" y="258012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6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2627280" y="258012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Hypertension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457200" y="294660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1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2627280" y="2946600"/>
              <a:ext cx="596124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Migraine; Poor circulation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457200" y="331308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11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2627280" y="331308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Gynecological complaint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457200" y="367632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12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2627280" y="3676320"/>
              <a:ext cx="596124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Wound healing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457200" y="4041000"/>
              <a:ext cx="2158920" cy="62136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18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2627280" y="4041000"/>
              <a:ext cx="5961240" cy="62136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Degenerative rheumatism; Extra-articular rheumatism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" name="Rectangle 19"/>
            <p:cNvSpPr/>
            <p:nvPr/>
          </p:nvSpPr>
          <p:spPr>
            <a:xfrm>
              <a:off x="457200" y="4671720"/>
              <a:ext cx="215892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2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2627280" y="4671720"/>
              <a:ext cx="596124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Post-traumatic condition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457200" y="503820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27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2627280" y="503820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Delayed fracture healing 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Rectangle 23"/>
            <p:cNvSpPr/>
            <p:nvPr/>
          </p:nvSpPr>
          <p:spPr>
            <a:xfrm>
              <a:off x="457200" y="540324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16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2627280" y="5403240"/>
              <a:ext cx="596124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Myositis, tendinitis, myalgia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Rectangle 25"/>
            <p:cNvSpPr/>
            <p:nvPr/>
          </p:nvSpPr>
          <p:spPr>
            <a:xfrm>
              <a:off x="457200" y="576972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32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Rectangle 26"/>
            <p:cNvSpPr/>
            <p:nvPr/>
          </p:nvSpPr>
          <p:spPr>
            <a:xfrm>
              <a:off x="2627280" y="576972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Lymphedema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Rectangle 27"/>
            <p:cNvSpPr/>
            <p:nvPr/>
          </p:nvSpPr>
          <p:spPr>
            <a:xfrm>
              <a:off x="457200" y="613404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64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Rectangle 28"/>
            <p:cNvSpPr/>
            <p:nvPr/>
          </p:nvSpPr>
          <p:spPr>
            <a:xfrm>
              <a:off x="2638440" y="6134040"/>
              <a:ext cx="5948280" cy="4633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Post-traumatic conditions; Degenerative rheumatism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>
              <a:off x="2627280" y="1484280"/>
              <a:ext cx="0" cy="5006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>
              <a:off x="457200" y="1850400"/>
              <a:ext cx="81313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>
              <a:off x="457200" y="221508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>
              <a:off x="457200" y="25801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Line 33"/>
            <p:cNvSpPr/>
            <p:nvPr/>
          </p:nvSpPr>
          <p:spPr>
            <a:xfrm>
              <a:off x="457200" y="294660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Line 34"/>
            <p:cNvSpPr/>
            <p:nvPr/>
          </p:nvSpPr>
          <p:spPr>
            <a:xfrm>
              <a:off x="457200" y="331308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Line 35"/>
            <p:cNvSpPr/>
            <p:nvPr/>
          </p:nvSpPr>
          <p:spPr>
            <a:xfrm>
              <a:off x="457200" y="36763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Line 36"/>
            <p:cNvSpPr/>
            <p:nvPr/>
          </p:nvSpPr>
          <p:spPr>
            <a:xfrm>
              <a:off x="457200" y="404100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" name="Line 37"/>
            <p:cNvSpPr/>
            <p:nvPr/>
          </p:nvSpPr>
          <p:spPr>
            <a:xfrm>
              <a:off x="457200" y="46717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" name="Line 38"/>
            <p:cNvSpPr/>
            <p:nvPr/>
          </p:nvSpPr>
          <p:spPr>
            <a:xfrm>
              <a:off x="457200" y="503820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Line 39"/>
            <p:cNvSpPr/>
            <p:nvPr/>
          </p:nvSpPr>
          <p:spPr>
            <a:xfrm>
              <a:off x="457200" y="540324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Line 40"/>
            <p:cNvSpPr/>
            <p:nvPr/>
          </p:nvSpPr>
          <p:spPr>
            <a:xfrm>
              <a:off x="457200" y="57697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Line 41"/>
            <p:cNvSpPr/>
            <p:nvPr/>
          </p:nvSpPr>
          <p:spPr>
            <a:xfrm>
              <a:off x="457200" y="613404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Line 42"/>
            <p:cNvSpPr/>
            <p:nvPr/>
          </p:nvSpPr>
          <p:spPr>
            <a:xfrm>
              <a:off x="457200" y="1484280"/>
              <a:ext cx="0" cy="5006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Line 43"/>
            <p:cNvSpPr/>
            <p:nvPr/>
          </p:nvSpPr>
          <p:spPr>
            <a:xfrm>
              <a:off x="8597880" y="1484280"/>
              <a:ext cx="0" cy="5006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Line 44"/>
            <p:cNvSpPr/>
            <p:nvPr/>
          </p:nvSpPr>
          <p:spPr>
            <a:xfrm>
              <a:off x="457200" y="148428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Line 45"/>
            <p:cNvSpPr/>
            <p:nvPr/>
          </p:nvSpPr>
          <p:spPr>
            <a:xfrm>
              <a:off x="457200" y="65005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flamm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rinary tract infec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str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pat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ndovagin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stheomyel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heumatic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lammatory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) disea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stat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lood flow disor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45080" y="2492280"/>
            <a:ext cx="404172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ipheral blood flow disord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M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nau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M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g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457200" y="18669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Neurological  dise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57200" y="2637000"/>
            <a:ext cx="4040280" cy="34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ipheral motor neuron les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yopath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entral motor neuron les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heumatic diseas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degenrative, extra-articular, inflammator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356000" y="1903320"/>
            <a:ext cx="4643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st-traumatic condi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ft-tissue injuri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ne fractu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st-traumatic edem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st-traumatic pai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mplanted cardiac pace-maker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due to interference with other electronic devices)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only absolute contraindication!!!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Acute deterioration of vital functions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the only absolute contraindication!!!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gnancy –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cause of the possibility of rapid partition of the embryonic tissue and because of changes in the blood flow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ildren during growth perio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Јuvenile diabet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yperthyroid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tive tubercul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Serious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circulatory problems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which include atherosclerosis and thromb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types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um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of the direct effect of MF on the cell growth, but also because of promotive thermal effect on proliferation of many malignant cells;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reatment of rheumatoid artriti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th strong high-frequency fields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3-30МHz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leads t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ep tissu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ating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ctivation of the enzyme collagenase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affect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breakdown of cartilla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the treated joi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dvantages of 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365040" y="1371600"/>
            <a:ext cx="81439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mmediate application decreases time of the treat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Numerous indica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 small number of contraindication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ynergis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Non-contact method (clothes, plaster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thermal (metal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TC, PTG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One antenna for two patien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isadvantages of 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Humans do not have receptors for M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Milder effect – longer treat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Various effects in pati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Lack of liter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ocedure risk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It requires careful dos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t can cause complications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in case of an inadequate dos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F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500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T–1 Т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ⱱ=50–60 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airement of the organism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uring application of Мтh, radiation therapy is forbidden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Not above the carotid sinu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aution in occlusive arterial disease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aution in: nephrolythiasis and urolythiasi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ide-effects of МТ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: sedation, mild anxiety and disturbance of daily bioloical rhythm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-36360" y="4226040"/>
            <a:ext cx="93056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LASER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52280" y="0"/>
            <a:ext cx="8928360" cy="2205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152280" y="2427120"/>
            <a:ext cx="9134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1"/>
          <a:stretch/>
        </p:blipFill>
        <p:spPr>
          <a:xfrm>
            <a:off x="3780000" y="222120"/>
            <a:ext cx="1584000" cy="205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The use of constant and variable magnetic field for the purposes of prevention, treatment and rehabilitation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The use of different types of magnetic field, which by having an effect on the patient's tissue cause different therapeutic effects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t is important to select the type, dose and method of magnetotherapy that will successfully interfere with the magnetic biopotential of an individual and their geomagnetic fiel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Djurovic, 2014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Magnetis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— a phenomenon which allows objects to attract or repel each oth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DEFINITION OF LASER L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ght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plification by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timulated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ission of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di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urce of a very focused beam of coherent monochromatic 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Spontaneous and stimulated radiation (photon emmisio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Characteristics of laser l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704880" y="2108160"/>
            <a:ext cx="4329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Coherenc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all photons in the same phase, of the same E and the same direction of spreadin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Monochromac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one color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Directionality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minimal diffrac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rcRect l="46072" t="0" r="9253" b="50023"/>
          <a:stretch/>
        </p:blipFill>
        <p:spPr>
          <a:xfrm>
            <a:off x="5370480" y="1498680"/>
            <a:ext cx="32590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4"/>
          <p:cNvGrpSpPr/>
          <p:nvPr/>
        </p:nvGrpSpPr>
        <p:grpSpPr>
          <a:xfrm>
            <a:off x="5303880" y="3017880"/>
            <a:ext cx="3686040" cy="2741400"/>
            <a:chOff x="5303880" y="3017880"/>
            <a:chExt cx="3686040" cy="2741400"/>
          </a:xfrm>
        </p:grpSpPr>
        <p:pic>
          <p:nvPicPr>
            <p:cNvPr id="194" name="Picture 5" descr=""/>
            <p:cNvPicPr/>
            <p:nvPr/>
          </p:nvPicPr>
          <p:blipFill>
            <a:blip r:embed="rId2"/>
            <a:stretch/>
          </p:blipFill>
          <p:spPr>
            <a:xfrm>
              <a:off x="5303880" y="3017880"/>
              <a:ext cx="338148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6"/>
            <p:cNvSpPr/>
            <p:nvPr/>
          </p:nvSpPr>
          <p:spPr>
            <a:xfrm>
              <a:off x="7524720" y="3227400"/>
              <a:ext cx="1258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aser ligh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Text Box 7"/>
            <p:cNvSpPr/>
            <p:nvPr/>
          </p:nvSpPr>
          <p:spPr>
            <a:xfrm>
              <a:off x="7578720" y="4246560"/>
              <a:ext cx="1411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ormal ligh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Basic elements of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rcRect l="1371" t="14983" r="1638" b="3322"/>
          <a:stretch/>
        </p:blipFill>
        <p:spPr>
          <a:xfrm>
            <a:off x="1428840" y="2357280"/>
            <a:ext cx="6286320" cy="32864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3"/>
          <p:cNvSpPr/>
          <p:nvPr/>
        </p:nvSpPr>
        <p:spPr>
          <a:xfrm>
            <a:off x="2143080" y="300024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71760" y="2428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313280" y="2625840"/>
            <a:ext cx="138636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Impermeab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mirro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2916360" y="2643120"/>
            <a:ext cx="212868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Laser pump (source of energy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5072040" y="2533680"/>
            <a:ext cx="185724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Semi-permeable mirror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714760" y="4286160"/>
            <a:ext cx="257148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Active medium in the resonance box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6858000" y="3643200"/>
            <a:ext cx="1571760" cy="38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LASER BEA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TYPES OF LA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According to wavelength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79280" y="2421000"/>
            <a:ext cx="446580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With visible light from 400-78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With invisible light fro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780-150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On the basis of the active material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5014800" y="2349360"/>
            <a:ext cx="367200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olid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Flui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Ga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mi-conduct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Types of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According to the way of emiss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ontinuo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mpul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According to excitation sour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4665600" y="242100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Optic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With the use of self-dischar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Electroioniz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Therm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hemic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Recombin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Lasers in medic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95280" y="134136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With coagulative effe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&lt; 6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n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Surgic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n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rapeutic (biostimulative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6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1100 n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Lasers with COAGULATIVE EFF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468360" y="1413000"/>
            <a:ext cx="81439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</a:rPr>
              <a:t>&lt; 600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Absorbed in pigments (melanin and hemoglobi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Accumulate Е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activate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r –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stop bleeding and obliterate small blood vessels (eye, skin, retina), tattoo removal, removal of the nevi, veruce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To stop bleeding in the digestive system, remove polypes and neoplasms of the digestive system, respiratory and urogenital system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Argon las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Neodium las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URGICAL la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457200" y="1700280"/>
            <a:ext cx="8143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&gt;1100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bsorbed in water, instant evapor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ser scalpel”: bloodless, narrow, sterile incis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surgical treatments of the parenchymal organs,  in purulent diseases, malignant diseases and coagulation disord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2 las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herapeutic (biostimulative)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457200" y="1700280"/>
            <a:ext cx="8143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од 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600-1100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Lasers of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low power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cold lasers);”soft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ome of them have only one, and some have more than one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of the outpu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t is slightly absorbed in water and pigments, thus the tissue penetration is deeper – biostimulativ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Helium-ne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He-Ne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galium-arsen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Ga-As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semi-conductor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Mechanism of action of biostimulative la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 exact mechanism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has not been yet completely determine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although there is very intensive research being done in this field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All effects of the laserotherapy can be divided into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Verdana"/>
              <a:buAutoNum type="arabicPeriod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primar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r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direc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Verdana"/>
              <a:buAutoNum type="arabicPeriod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indirec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istory of the use of magnetic fiel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500040" y="1484280"/>
            <a:ext cx="814392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Greek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(province Magnesia;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ale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Egyptians, the Chine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VIII century Glaisault -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rst artificial magne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e No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was the first to present artificial magnets to the medical worl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Majority of European countries 1960-1985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4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n the USA in the 80's — devices for therapeutic purpo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4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n Slovenia (Maribor) for the first time in physical medici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IMARY (DIRECT) EFFECTS of biostimulative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468360" y="1341360"/>
            <a:ext cx="81439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 Biochemical effect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Activa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enzyme substances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neurotransmitte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Releas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colloid substanc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 Bioelectric effec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Normalization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membranous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f the cel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 Bioenergetic effec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Stimula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ATP synthe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stimulation of energetic process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457200" y="274680"/>
            <a:ext cx="7570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RECT effects of biostimulative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457200" y="1484280"/>
            <a:ext cx="81439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ise from the primary effect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mulation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crocirc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mulation of the cellular excahnge of materia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imulation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ellular metabol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GENERAL THERAPEUTIC effects of biostimulative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ise from the described biological effect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alges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ti-inflammator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ti-edematou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omod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1. Analgesic effect of lasertotherapy - mechan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ies the release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diators of inflamm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histamin, IL-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bradikinin, PG-E2, TNF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substance P)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es “rapid” А-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iber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odulates “gate control“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chanism of pain impulse transmission in the posterior horns of the spinal cord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rve conductibilit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stimulates production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ndogenous opioid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enkephalins and endorphin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u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yperpolarizati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the cellular membrane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th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in treshol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1. Analgesic effect of laserotherapy - mechan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erotherapy has an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ndirect effec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n pain reduct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es muscl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a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ircula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blood and lymph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reases or eliminat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ema and ischemi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tissues an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gogenous substanc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2. Anti-inflammatory and </a:t>
            </a:r>
            <a:br>
              <a:rPr sz="2800"/>
            </a:b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3. Antiedematous eff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duces the release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diators of inflamati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(histamin, IL-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bradikinin, PG-E2, TNF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substance P)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ircul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blood and lymph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sorption of extravasate and elimination of metabolite; reduction of edema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es unspecific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umoral defen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increase of the synthesis of complements, lysosomes and interpheron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 of phagocyte activity of neutrophil Le and macrophage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ctivation of Т and B lymphocyt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457200" y="274680"/>
            <a:ext cx="8002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4. Biomodulation (biostimulative) effect of laser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exchang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rough the cellular membrane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itos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ynthesis of DNA and RN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hesis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АТP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mitochondrias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hesis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llag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number of collagen fibers,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s the effect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nzym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the basal epithelial lay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pplication techniqu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457200" y="1413000"/>
            <a:ext cx="61308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Scanning 15-3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 grip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gg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poi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Laseropuncture (over the reflexogenic zon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468360" y="1341360"/>
            <a:ext cx="81439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-1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spasmolytic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до 1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nalgesic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300-600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biostimulative effect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око 6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ntiedematou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000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nti-inflammatory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recommended doses which are reduced by 30% after 3 - 5 day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Output po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5 - 10 mW by acupunctur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50 - 70 mW scann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radiation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W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–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ength of radiation directed at a certain surface;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important for achieving a biological effe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DOS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(density of Е)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from 0,01 – 10 J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  <a:ea typeface="Microsoft YaHei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biostimulative effect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0 J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  <a:ea typeface="Microsoft YaHei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bioinhibitory effe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DURATION TIM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- 10 min, maxim. 30 mi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ources of 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24000" y="1484280"/>
            <a:ext cx="82771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 use of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constant magnetic field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natural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magnetophor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orseshoe magne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 use of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electromagnetic field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apparatus) which is created around the conductor when electricity flows through i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low-frequency 2-1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igh-frequency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7772400" y="4206960"/>
            <a:ext cx="1249200" cy="2511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7164360" y="2637000"/>
            <a:ext cx="144000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Final effect of 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457200" y="1484280"/>
            <a:ext cx="82915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Final effect of therapy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is significantly determined by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224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sit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f application,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Method of radiation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of the aimed tissue,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numb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an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frequenc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f procedures, as well 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Pathological substrate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being affected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984960" y="5373720"/>
            <a:ext cx="1585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Radiation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5442840" y="5376960"/>
            <a:ext cx="1585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Tissu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50" name="AutoShape 5"/>
          <p:cNvCxnSpPr>
            <a:stCxn id="249" idx="1"/>
          </p:cNvCxnSpPr>
          <p:nvPr/>
        </p:nvCxnSpPr>
        <p:spPr>
          <a:xfrm flipH="1">
            <a:off x="4903200" y="5651280"/>
            <a:ext cx="454680" cy="1362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1" name="AutoShape 6"/>
          <p:cNvCxnSpPr>
            <a:endCxn id="249" idx="1"/>
          </p:cNvCxnSpPr>
          <p:nvPr/>
        </p:nvCxnSpPr>
        <p:spPr>
          <a:xfrm flipV="1">
            <a:off x="2555640" y="5651640"/>
            <a:ext cx="2802600" cy="133560"/>
          </a:xfrm>
          <a:prstGeom prst="straightConnector1">
            <a:avLst/>
          </a:prstGeom>
          <a:ln cap="sq" w="38160">
            <a:solidFill>
              <a:srgbClr val="f0000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2" name="AutoShape 7"/>
          <p:cNvCxnSpPr>
            <a:endCxn id="249" idx="1"/>
          </p:cNvCxnSpPr>
          <p:nvPr/>
        </p:nvCxnSpPr>
        <p:spPr>
          <a:xfrm flipV="1">
            <a:off x="5130360" y="5651280"/>
            <a:ext cx="229320" cy="140400"/>
          </a:xfrm>
          <a:prstGeom prst="straightConnector1">
            <a:avLst/>
          </a:prstGeom>
          <a:ln w="0">
            <a:noFill/>
          </a:ln>
        </p:spPr>
      </p:cxnSp>
      <p:sp>
        <p:nvSpPr>
          <p:cNvPr id="253" name="Text Box 8"/>
          <p:cNvSpPr/>
          <p:nvPr/>
        </p:nvSpPr>
        <p:spPr>
          <a:xfrm>
            <a:off x="3189960" y="5423040"/>
            <a:ext cx="1155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ynam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108600" y="5811840"/>
            <a:ext cx="145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a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685800" y="2781360"/>
            <a:ext cx="7772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HIGH-INTENSITY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LASER THERAPY</a:t>
            </a:r>
            <a:br>
              <a:rPr sz="2800"/>
            </a:b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- HIL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High-intensity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Output powe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s on averag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30-50 times highe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comparison with conventional “cold“ therapeutic las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Optimal ratio of absorption and penetr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Unlimited depth of the tissue penetration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Photomechanical waves which block the pain are produced in the subcutaneous tissu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he main medicinal eff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Biostimulation +</a:t>
            </a:r>
            <a:r>
              <a:rPr b="1" lang="sr-Latn-R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200" spc="-1" strike="noStrike" u="sng">
                <a:solidFill>
                  <a:srgbClr val="ff0000"/>
                </a:solidFill>
                <a:uFillTx/>
                <a:latin typeface="Verdana"/>
              </a:rPr>
              <a:t>photomechanical stimul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 u="sng">
                <a:solidFill>
                  <a:srgbClr val="000000"/>
                </a:solidFill>
                <a:uFillTx/>
                <a:latin typeface="Verdana"/>
              </a:rPr>
              <a:t>Photomechanical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wave stimulates free nerve endings and other pain receptors in the subcutaneous tissu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it blocks the pathways of pain transmission in the nervous system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Improves local microcirculation and lymph draina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he main medicinal eff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ong and long-lasting analge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en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-inflammat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-edematou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inuous m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Optimal therapeutic effect 810/980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n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or 1064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n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Deep penetration (10-12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c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!) power up to 12W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Without side eff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lse m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By wavelength of ~ 1000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n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Frequency of the pulse repetition 10-30 H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Immediate relief from pai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75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reatment lasts from 10-20 </a:t>
            </a:r>
            <a:r>
              <a:rPr b="0" lang="de-DE" sz="23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75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herapy usually consists of 10-15 appointments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ST-TRAUMATIC CONDITIONS AND SPORTS INJURIES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stortion, contusion, tendinitis, tendovaginitis, muscle rupture, entesitis and entesopathy, fresh fractures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HANGES ON BLOOD VESSELS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arices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lcus varicosum, Mb. Raunauyd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KIN DISEASES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czema, acne, furunculi, herpes simplex, herpes zoster, anal fissures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YNECOLOGY AND UROLOGY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nexitis, endocervicitis, cervical erosions, mastitis, urethritis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PHTHALMOLOGY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laucoma, retinal ablation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HEUMATIC DISEASES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lammatory diseases in remission, degenerative, extra-articular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2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ildren – the area of the bone epyphises during the  growth perio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ye are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area of the thyroid gland, gonades and other endocrine gland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gnancy (abdomen and lower back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ce maker (chest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rombosis and thrombophleb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pilepsy (head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otective meas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Glasses with a special filter (cataract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 room with good and uniform lighting, without mirrors, without lacquered surfac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Do not look into the laser beam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Primary effects of the magnetic fie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netic field causes vibrations of cellular membranes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, thei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yperpolarization</a:t>
            </a:r>
            <a:r>
              <a:rPr b="1" i="1" lang="sr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and the increased activity of ionic pump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Periodic permeability of the cellular membrane without energy cos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ncrease of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pO2 up t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200%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ncrease of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T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improves the function of cells and tissu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econdary biological effects of the magnetic fiel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asodilation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(increase of circulatio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tiedemato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ti-inflammatory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ophi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mproved tissue heal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rease of blood viscosity (antithrombotic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rheological blood characteristic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algesi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dativ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immun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ion of endocrinal func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Electromagnetic therapeutic apparat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79280" y="1484280"/>
            <a:ext cx="5472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magnetic therapeutic apparatus consists of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Control uni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generator of electrical impulses)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an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olenoi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(wire in the shape of coil through which electricity flows) - in the form of plates, antennas, hoops, mattresses, cushions, cuffs, special chai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echnique of 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1700280"/>
            <a:ext cx="8143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ocal –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on the injured part of the bod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Reflexive –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on the vegetative gangl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eneral –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affects the whole body, except the he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57200" y="274680"/>
            <a:ext cx="70675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Magnetic fie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457200" y="1484280"/>
            <a:ext cx="6059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ЕF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lectric field strength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МF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gnetic field induc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;                                                                                В [Т; mT]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gnetic field line density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gnetic field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u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orce of acti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the MF on surrounding object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22440" y="79848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1:33:56Z</dcterms:created>
  <dc:creator>+++</dc:creator>
  <dc:description/>
  <dc:language>en-US</dc:language>
  <cp:lastModifiedBy>Nada Miklja</cp:lastModifiedBy>
  <dcterms:modified xsi:type="dcterms:W3CDTF">2023-09-26T09:10:32Z</dcterms:modified>
  <cp:revision>928</cp:revision>
  <dc:subject/>
  <dc:title>PowerPoint-Präsentation</dc:title>
</cp:coreProperties>
</file>